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AB85-C0CE-4BBC-804B-7BE50996D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FCE7-FD43-44EF-B52B-7472A44A07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3FF1-D817-4611-870B-F06918E4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E808-5EC8-4B1C-9433-8410C026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9115-E693-4287-9362-ADACEDE9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8E5-CA97-41C6-9B5D-DF20E3E4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3D6-B538-4AB1-9A58-4765A79A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2F1F-3E7E-4685-A098-5D17C4C8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14F-0B9B-481B-9D33-5C0E89A8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F5D4-2F14-4231-9781-3DEE0DDE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9E1-48BD-46D1-AA3C-65929E63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FBD-3E01-42A3-9F2A-F6803738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1EA-1BCA-4FBA-AD76-9E06BECB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AED-B1A3-4CDF-8488-125C760C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A822-F28C-4333-A2F6-8AFD8A8A6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n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1958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/8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76320" y="76320"/>
            <a:ext cx="5796720" cy="914400"/>
            <a:chOff x="76320" y="76320"/>
            <a:chExt cx="5796720" cy="91440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1338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 txBox="1"/>
            <p:nvPr/>
          </p:nvSpPr>
          <p:spPr>
            <a:xfrm>
              <a:off x="1447560" y="187200"/>
              <a:ext cx="4425480" cy="73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76320" y="990720"/>
            <a:ext cx="899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Rockwell"/>
              </a:rPr>
              <a:t>Electromagnet        Fishing Derby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3280" y="1143000"/>
            <a:ext cx="144324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236000" y="304920"/>
            <a:ext cx="1768320" cy="1904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905120" y="2971800"/>
            <a:ext cx="5333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EP 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4419720"/>
            <a:ext cx="8991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ify that dimension requirements have been met and test that fishing is possible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 STEP 1 ON YOUR PROJECT WORKSH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3749" t="17001" r="13749" b="11002"/>
          <a:stretch/>
        </p:blipFill>
        <p:spPr>
          <a:xfrm>
            <a:off x="457200" y="533520"/>
            <a:ext cx="8001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EFD STE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sm &amp; Static Electricity ActivInspire Flip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! (Step 2 Due Mon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 good night’s sleep and eat breakfa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when opposite magnetic poles are brought toward each 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77354A5A-E612-4D13-BA52-5378568BAFBD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July 30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Define and describe magnetism, magnetic poles, fields, and domain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Define static electricity and explain how electric charges interact with each other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gnetism &amp; Static Electricity K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31251" t="28003" r="32500" b="41003"/>
          <a:stretch/>
        </p:blipFill>
        <p:spPr>
          <a:xfrm>
            <a:off x="1523880" y="2057400"/>
            <a:ext cx="60962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440" y="1704960"/>
            <a:ext cx="8686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t a good night’s sleep and eat breakfast in the morn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magnet Fishing Derby Step 2 – DUE MO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TPChart"/>
          <p:cNvGraphicFramePr/>
          <p:nvPr/>
        </p:nvGraphicFramePr>
        <p:xfrm>
          <a:off x="4508640" y="2514600"/>
          <a:ext cx="4572000" cy="42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514600"/>
                    <a:ext cx="457200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happen if the magnets in the diagram below are pushed toward each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495680" y="1676520"/>
            <a:ext cx="1524240" cy="609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43800" y="1676520"/>
            <a:ext cx="1447920" cy="5792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will attract toward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will repel away from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will not attract or rep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58080" y="198108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959520" y="1981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79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9:11:56Z</dcterms:created>
  <dc:creator>CCPS</dc:creator>
  <dc:description/>
  <dc:language>en-US</dc:language>
  <cp:lastModifiedBy>CCPS</cp:lastModifiedBy>
  <dcterms:modified xsi:type="dcterms:W3CDTF">2010-03-08T19:12:26Z</dcterms:modified>
  <cp:revision>2</cp:revision>
  <dc:subject/>
  <dc:title>Slide 1</dc:title>
</cp:coreProperties>
</file>